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B441-94C4-450E-8CB3-F32C3C2F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7E7-3F3B-460A-8BEB-3A499725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16E-DFC8-44CA-93DF-4308249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697-A334-45C9-B06A-9BD4AC86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935-59C3-4EDD-B586-452F921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31F-0AE9-44E8-91FA-12EDD252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996-72E6-49F9-A828-BC3DD2A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24F-2CBF-4567-9F99-ED8B4369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99E-811C-4F1D-8DFB-DBE2AC4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597-0DC4-41F5-8516-35E9520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690-FAFC-45CE-B175-D605A78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2C6-ED98-4F79-A775-11963804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19C-2508-473E-A922-52C5A663D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png"/><Relationship Id="rId6" Type="http://schemas.openxmlformats.org/officeDocument/2006/relationships/image" Target="../media/image7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png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00800">
            <a:off x="1555920" y="-571320"/>
            <a:ext cx="3576600" cy="47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My Story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  </a:t>
            </a: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3498000"/>
                </a:gradFill>
                <a:latin typeface="Comic Sans MS"/>
              </a:rPr>
              <a:t>Book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3498000"/>
              </a:gradFill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 rot="1023600">
            <a:off x="1658880" y="2800080"/>
            <a:ext cx="3743280" cy="27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A day at the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4374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 </a:t>
            </a:r>
            <a:r>
              <a:rPr b="1" lang="en-US" sz="32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757575"/>
                    </a:gs>
                    <a:gs pos="100000">
                      <a:srgbClr val="ffffff"/>
                    </a:gs>
                  </a:gsLst>
                  <a:lin ang="4374000"/>
                </a:gradFill>
                <a:latin typeface="Comic Sans MS"/>
              </a:rPr>
              <a:t>Forbidden Garden</a:t>
            </a:r>
            <a:endParaRPr b="1" lang="en-US" sz="32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757575"/>
                  </a:gs>
                  <a:gs pos="100000">
                    <a:srgbClr val="ffffff"/>
                  </a:gs>
                </a:gsLst>
                <a:lin ang="4374000"/>
              </a:gradFill>
              <a:latin typeface="Comic Sans MS"/>
              <a:ea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4560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, James and Rowan are at the Forbidden Ga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32000" y="443700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walking through a sprinkler and getting w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338436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003640" y="1052640"/>
            <a:ext cx="3384720" cy="2587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172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75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5272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found some legs stuck i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58920" y="443700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found a metal giant hiding in the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74072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previousslide"/>
            <a:hlinkClick r:id="rId3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170160" cy="3745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5148360" y="333360"/>
            <a:ext cx="3135240" cy="396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810108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5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0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4437000"/>
            <a:ext cx="35272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t is time to go home. Goodb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8920" y="4149720"/>
            <a:ext cx="3600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  <a:hlinkClick r:id="rId2"/>
          </p:cNvPr>
          <p:cNvSpPr/>
          <p:nvPr/>
        </p:nvSpPr>
        <p:spPr>
          <a:xfrm flipH="1">
            <a:off x="467640" y="623736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32360" y="1125360"/>
            <a:ext cx="3600360" cy="2186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767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12160" y="5738760"/>
            <a:ext cx="7797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99520" y="57340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0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3:50:26Z</dcterms:created>
  <dc:creator>OEM Preinstalled User</dc:creator>
  <dc:description/>
  <dc:language>en-US</dc:language>
  <cp:lastModifiedBy>OEM Preinstalled User</cp:lastModifiedBy>
  <dcterms:modified xsi:type="dcterms:W3CDTF">2005-03-02T16:49:09Z</dcterms:modified>
  <cp:revision>18</cp:revision>
  <dc:subject/>
  <dc:title>Slide 1</dc:title>
</cp:coreProperties>
</file>